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D77-8961-4E18-ABB0-FC033C6A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664-5140-41C3-B1A3-6E6A992C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40FCE-D099-4778-B20C-95304578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48A2C-AAD7-4A77-A10F-5A292252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80C5E-EA41-4A9B-8E81-E3C08735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B9B0B-FB38-418B-BFC8-6313BF5B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17AA9-6FDD-41A1-8556-C9E9392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53E3E-E464-469A-BC31-27A83FD6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993B0-E6F7-4AFA-B239-5C68D631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AEB06-AFE0-41D7-85DD-7902AA24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8D194-33B6-43A2-B8A8-1899DD90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30DFF-54E7-4C00-A4A1-6338E173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9FF-585B-4C04-A01C-529F898F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BC1F4-CC0C-4798-AA91-CBA39FB4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42382-3EC1-48EB-BB0C-02CEDB6F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1281C-903D-444D-812A-FECBB5C4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88CB6-8239-42C8-BF6E-B6C8EA12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5B403-975F-467D-9545-02B0CAE0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AA066-D770-4C8F-9C76-22E03FD2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146B2-2DCE-4A06-95AD-3403E3F9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712F7-8A31-45DC-A460-45077943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4D356-4637-4873-8FBA-C251503F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D44E0-F71A-4057-806E-72CA1554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D70-3676-4349-B054-660F1D6F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87F94-704C-438A-BFD7-5EDC1CB5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4193B-C73A-4139-AD80-A9CD3B4C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7381F-4FFA-47DC-8AB8-8F19B6CA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61454-5AEE-4E31-A0C0-D1688C8F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BC9CB-48A4-4FA5-A46F-F523FA6F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2451B-5A4B-4852-9D91-EE981FB0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7B036-1F3E-49AE-8891-A6226C5D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8118D-4D91-478B-B42C-F993FC71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C47F9-5A9D-4FA2-BC16-F0044B2D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3FA1F-6D7F-4856-A44D-4D60634D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A70F-C859-4D3E-AA20-2B5B2863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D8CF9-5B83-4231-BD74-4CA5E14D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3CF1E-4729-493E-A59D-9285D7A0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317AE-F5EA-4B00-8C81-D5465206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0B998-B229-476A-BDD8-4814851C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F0CCD-0DBC-488C-B17F-E6CC883D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3E9CA-EEA1-4C96-AE8F-D863048A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0DE64-B87D-415B-AFCF-7C42F342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F068D-40D6-40B5-B611-DC831626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C60A5-6EA9-4888-91A6-C7C70168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6541E-436A-4096-99AA-3F5EAE7E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7A22-9064-44A7-98CF-B380DC45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B213C-2024-478C-A222-E4F5E09E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53C3D-3AB2-412C-99A9-CC5BE88D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1B4B3-9AC7-4458-B893-803E8A77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8C9A8-21CD-40CA-BBF1-C331EEF2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181E5-0770-4CAA-B7FC-7A7E5CEB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18C85-3DF8-4DC9-AE79-2D646D75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65E1B-9D5E-421F-9391-B10E4409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96A74-76AB-4970-A819-F78E204A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22F90-0061-406C-94E3-8E802920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2168F-D72A-44B2-BDAB-14BDF8AF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2FA3-A47F-48E1-A027-D4729A12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423BE-B533-4557-8C75-6C65C4B1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18116-A8DF-4363-8075-50773014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E5997-77AA-4E3B-ABF3-9327EE8C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6608B-6C0D-4507-89A3-EF68999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6A2B1-0EAC-44BD-B168-9621CFB9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773A4-E473-4987-8CCC-670F6007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72CC9-7032-4A51-B1DD-965B0F51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01738-E844-4D59-8EDE-B0B376A2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B857F-E9EF-4A6D-8A1D-6A237D12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34461-0B4B-4385-89E4-51052E5A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F1E0-2A48-462C-89B3-AB373A8B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D8D0D-FDD7-4971-9934-A697CAC3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B250C-9D67-4822-8C1B-CA71FB9C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57DC1-01F0-4A29-9B20-DD23DCCD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A28E0-624D-4FD4-A03F-77E0879F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EC580-2B07-4E16-B7C6-516D3A7E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01675-6B0B-4A9F-9EC6-7DA1137E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968C4-7335-4D1C-9394-F6190A40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E5FA6-FE63-4F97-8B05-CAEA5986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902D7-5014-4757-A7A7-016B1400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4C9AD-C381-43A8-98B6-9AD6E931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DB72-57A2-4A6A-912B-202D7C38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297ED4-3EA8-4370-A1B4-E42877C7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B4CF9-5F5C-4990-AA80-91154427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1C7AA-138C-41EF-8A68-540EF356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BE102-6D78-4872-8348-B6EEF0CD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41EA6-C91D-4ABE-9952-A67F79BA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33E2E-1E56-4DF7-9A43-663A6694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E1370-FED0-46FA-87BF-41005D2A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5F392-DDD0-4F6D-9280-67C8F03F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DDB52-1DA7-4077-BE86-18F9F85D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37A68-6FD9-4602-8405-874E0B3F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B10D-2700-4095-86CE-5DE84B90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8649A-FD4E-4389-AFAE-76B357E2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12162-A96F-487D-889A-E92136EF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610D00-9C08-4315-8DEA-97059401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756518-CF57-46BD-B8D2-E283C3B5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89D41-860D-4F85-B48B-2C9B4423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8D028-5D23-4E9A-AFD9-E1356BF2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E0CA7-3705-4224-B146-AA4658DC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0668F-58C7-408C-94E6-42A6A394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5DAE8-BDF9-460D-B0D7-88AD9C67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AB9B8-0FC8-4217-9A15-A77AD805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0C1A-1C3F-435A-B17F-92C9BA8F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AEEEC-76BB-4410-B6EB-66452204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185E61-EE07-4546-BF79-2061DD1E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50C3A-96E8-45AC-9C2B-019C8B6A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61EEDC-87D4-429A-A8AA-822169F6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66529-DA8D-49A1-A298-0B2A0E89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51719-854F-4E39-B460-2DE40EC5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10C92-5798-455C-B883-9190BEC8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0C02AA-14FF-48A7-AF8E-62A76EC3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07C07D-EDB1-45E3-8413-7527759F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31747-74D5-4D87-8C67-F350C99C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CF8-6C36-4814-8B60-983C32B1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8117-4C33-47BE-91B0-23B5244A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72A9B-A5AE-4C20-9285-0AB42A7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9170C-2D8E-410F-A77D-7F9BFD22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433CFB-6BEE-4AD3-BD49-2B9BAE0D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F89BF-3D29-4230-B3BA-D35DF799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27076-AE64-475C-9730-D50EB0FD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C168F-B9CE-4100-AE5B-F8B00761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423285-D238-49ED-8872-F616C9C9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F6234-4897-4DDE-8388-9C723C64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B6B60-06E3-45EC-B83A-564226A7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10FEE-DB61-4048-B0BD-F9AD0F2D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0DD0-1FD7-4E10-B7B5-4F376A43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5F55E-A9E8-4642-B545-EE9E048F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B3CCB-488F-4447-89B3-AA6A0A7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CD30C-B6A2-406D-8B85-0309D111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75FB04-9BA1-46E3-B885-E0E96AC9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BF2268-5917-4175-9241-C911D146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46D6AC-E3C4-4AA5-804F-38B34950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C24E1-AEF5-44A2-9D9E-595DE20F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F9F2CF-856B-45E1-89AD-801867CA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5413C-1F08-4C27-A044-EFDF6CF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0E072-BC7D-488B-A73D-15317087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ECF8-F40F-4BE7-B5C0-BCF4D4E7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FDBE7D-C6E5-4E5B-A04F-278BF57A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97DF85-B285-4322-AF49-7D7C854D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642DF7-051A-4790-AFCC-200769A4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D0A5E-AAD2-4B01-A864-9275EEA9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8D92A2-0D75-4EFA-85E2-5F3CFD12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3A057B-BED6-4E1E-9D8D-DD183E93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7217A-5377-4960-B717-7760398A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1F745D-F6D7-426D-BA3A-887632CC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867BA8-767E-4553-ACEE-01C7AD0E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F91A1-420F-4388-8983-1E463C74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275E-28D8-46D9-A811-96953C52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D63F9-0ED1-4940-A073-03B6C53E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D245F3-6EB7-48E3-A275-766A1D6C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14245-1696-414B-9BB4-944052AC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72EA66-B2AD-4BB1-896E-5D8EAC84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E94F58-8A44-4314-A40C-D0294A4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6A9660-BEDE-40C7-934B-F71C8475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D83A3-0B49-436B-A46D-240D9C96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301E61-F4C2-4188-9A82-3215C443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0BA8DA-527D-4ADC-943C-734F3129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2DDED5-CD86-45DD-BBF4-E04CD2E2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35C4-18F6-48F9-AFF4-230BABC5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2BE1B2-C261-4C1D-B295-1572508F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D64BC-8D5A-4482-96B9-E28D1999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821478-0143-4FC9-AF8A-F3D57C6A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2BECC6-F79B-4EAF-BFE7-A8663873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336D0E-CAF4-4778-8B06-5333FBE2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3DB52-4138-43DE-8AAC-1AD6F7A5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5B3EAF-B99E-4B08-ADA7-B2A11E6F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32433F-5487-454B-B2EC-F943B84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49EF10-3028-42B9-A212-6527AB12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6AF98-38E8-46A5-9FED-2D7C415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607F-0895-4D50-A87D-60218F4B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796CF-0FDA-4D4A-B8FB-CC1767EF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E290F-1877-415B-8D3F-67B60F05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A6B992-4582-4077-A262-50ECE342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7EA7-C2E7-4B3F-8E9B-CE4CAD48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C073-C930-4AB4-92FB-69F3A3C9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0F06-BE4B-442D-8180-9C5223BC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06B8-6B81-4CEF-85BD-8AFBBAEF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576-1906-4084-9AC8-85B380FF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6A6C-7539-4CD4-A27A-4AA097FC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78B7B-8E80-44E2-895D-234B7818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CDC5D-E2F0-4493-9E1F-0C11B3CD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44CD-A76C-467E-9E9D-58DC8C32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37B2-B0F2-440F-AD24-CC4DE92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E13A-2DF5-4E7E-8403-A4C9013F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ECCE-5577-4499-B2C5-D8FA46B9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6F56-008E-46CA-9BDF-B651E4D8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8ECE-83C9-4DA0-A8CB-83EC8715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A7EE-0151-4BC9-AA47-629FB314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89A-12AB-408F-873A-5B7C70A2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1965-D4A8-40F5-AC50-259AF547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5F9F1-CB6B-44D3-980D-23E6C216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B3F85-99BD-4D52-ACC5-C83B3856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613BD-C389-4293-9679-5D01608B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B4DE-7C45-45C8-8B0B-7C931C21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75605-46D5-4435-A344-871BD7C2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E710F-44CA-4A52-8DB8-2DED1264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0BC8D-81F7-4D5E-B11E-C2DE2CD2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7BDE-AAAD-4988-AB43-9289BE7B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0D96C-1BD2-4486-843F-CF97599D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DED-F9DE-4CF3-AB83-5534D6B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E18C8-4C5C-459A-8F79-66B64F07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F4594-AE11-41DC-AB57-000BEF4A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0D7F9-6DB0-44BF-B488-3AD7E009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5435-8A37-4D95-99A8-D0804D97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96773-3D7F-470E-BC66-CB927DB6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2E0B6-22A1-4560-8DE0-2EA63092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D44B3-6183-4B66-A09D-5FEC937F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7E0CA-9CB2-4D01-9A20-D9166570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D93E9-FBB1-4255-86A6-0A3EA7B6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A8519-D993-4CB4-8449-FBF56CD9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1AD-FD8D-4163-BB4F-A2E8E027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898E-895C-4390-8671-3E1A230C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AF8E6-E4B9-4CAD-A2F6-C71B1017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A434F-6F87-4C50-BC11-54DF23D8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C6821-D058-44FD-8BAA-51274C63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153CA-619D-4A2A-8997-0B18EF93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3E59B-B24A-41D1-AFD2-DAE13E8B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F83C1-38D0-468A-935C-A7768F49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B9843-0DB3-44AC-8CEE-DA278BDC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6BD4-EBF8-4539-BEE0-577B2B96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42861-6FF2-42A6-B4E6-8108DF5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49B-9407-4D71-914C-E9121EAC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78C41-9C46-4F35-8462-D6F0E07D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7C671-5A35-44DD-8FCB-BCB33038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F594F-D5EF-4580-B172-8E1D09D2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959A8-1FD8-46FB-B6EB-DF5F8443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98F4A-9C1D-4617-8EE3-B18E797C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9EBC-608F-43D1-9FAB-9C7ACD12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FB7F6-729E-48FA-ACD6-49640FD8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4FCF-342C-48AA-81FE-08101998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46BFA-BEA7-4747-A850-777ED9F6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1DB18-3C5E-477D-A64F-D746F57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EF4-39BD-40B7-ACFE-A6CC1BDE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FA569-04DD-49AC-A910-B9DECFC6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5A390-2FBE-452F-9B5D-DB83526A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28D0C-F1A5-4C7E-AE1F-61AE697F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4F3D2-90F7-4669-9CD8-353D9652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0235C-AFAF-4EFD-B6CD-FB3454A8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65256-C568-462C-A065-856C280E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CF2D9-C8AF-4B17-B18C-76084BAC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BA403-B0E4-48D8-A5F3-45021457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2CEC6-7FB1-47C8-8261-33FC2609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DA47D-EC50-4C71-861D-CD3EAF67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584-C703-41A4-BEA1-E2DDC16F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866C4-0C42-41E3-A353-B543E554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255A4-452E-471F-A125-AD8EB191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CEF8A-584B-496E-AE14-373B2CA5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A0A6A-0428-47D5-9EED-3B4E8FC5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6E193-DFC2-4385-AC17-DE260FAD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8BF0F-DAF0-4533-8A2B-F44DEF42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AE34C-6F15-4D2E-9892-08874ACF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75E78-1A6A-4766-86A0-BFEFB5CC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0B3E0-B659-47CE-8CAE-0537174B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C219D-DE10-4C43-8551-0A4535E5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A91D-BBAA-41E4-85E5-BA966DD82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81BF-CBCF-4114-A937-8F79A749BE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6912-CCFE-4F5B-9243-9F023AB81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445-2416-41B0-9C71-99D46EEC5D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0920-1A89-4BBD-99CD-53AE0438CE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4B7D-FF6B-49C5-B8BD-B544DEDB92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4DFD-F30D-4217-AA9C-36ADE0F66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575A-004A-4FD9-A5AE-1E797392F0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E00A-C4F4-4C15-A8F7-238821118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8FAB-175C-433E-9B03-575248B02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4D9C-B83C-46CE-83EF-8F3070EA27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8631-8C85-465F-A570-AC7120119A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E769-F19E-484A-A62F-5BECC8C701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FE80-6295-4CFE-A13E-5D1CA0C5BE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94B9-662B-4DFD-854B-5229835622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E780-4998-4C0E-B275-3380E5DB15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C321-8C80-43B9-9E95-15FD6F4EB9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7704-2CDB-42A9-A529-A7276AFC08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7AA3-B821-4276-BFBB-282E9AFB9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2D64-BF29-426E-AD84-960A9335F6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3E0C-81BB-433C-8B53-AA12619AE4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E2A0-0E8A-4F6D-895B-832B499BE1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DF03-3726-4142-8272-AF09BD2C08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DC2F-C6DF-4920-84A2-2DF4F38192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19D6-2999-4F5C-BD79-A5293C783B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8F19-93BF-4AC5-8E80-D725F9406B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F3FB-6A29-470D-904F-2D68EA3E4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737F-570F-4BD4-9DC8-8552CAB61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71D5-B487-4A53-A04B-B62BBF861F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0DEA-B31F-4DAD-855D-12A862CBD5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C072-523D-434E-AE65-8BB17F9BA2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A28F-E02B-4AC2-B721-F730BE3B53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70B7-56D9-4B01-AC72-5136174D1B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EC3C-76DF-44D0-86F8-0E078B427C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BC8D-F8A2-4AD4-9B4B-4AD44F5F14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804-03AB-4772-ADAD-B5F6A44C53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BA82-0A6E-404A-8536-0084403888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2BEE-2A47-4A48-8AF4-BBC4032C8B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A1E2-7051-4FF3-8797-9CA09121B5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65DA-96CD-4C94-B6D8-DD8F0FD019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371680" y="3005280"/>
            <a:ext cx="44006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276120" y="976320"/>
            <a:ext cx="8591760" cy="55245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1000080" y="35719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4286160" y="35719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2000160" y="4564080"/>
            <a:ext cx="500040" cy="368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3571920" y="4572000"/>
            <a:ext cx="1928880" cy="368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2857680" y="60008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4643280" y="602136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086680" cy="1380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2"/>
          <a:stretch/>
        </p:blipFill>
        <p:spPr>
          <a:xfrm>
            <a:off x="7286760" y="12747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3"/>
          <a:stretch/>
        </p:blipFill>
        <p:spPr>
          <a:xfrm>
            <a:off x="785880" y="176688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4"/>
          <a:stretch/>
        </p:blipFill>
        <p:spPr>
          <a:xfrm>
            <a:off x="6551640" y="1774800"/>
            <a:ext cx="11430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8382240" cy="5648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2"/>
          <a:stretch/>
        </p:blipFill>
        <p:spPr>
          <a:xfrm>
            <a:off x="714240" y="250020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693720" y="428472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357120" y="795240"/>
            <a:ext cx="8420040" cy="5991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714240" y="83664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714240" y="3121200"/>
            <a:ext cx="543240" cy="431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714240" y="5376960"/>
            <a:ext cx="543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357120" y="800280"/>
            <a:ext cx="8429760" cy="59148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2"/>
          <a:stretch/>
        </p:blipFill>
        <p:spPr>
          <a:xfrm>
            <a:off x="1571760" y="2603520"/>
            <a:ext cx="928440" cy="368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3"/>
          <a:stretch/>
        </p:blipFill>
        <p:spPr>
          <a:xfrm>
            <a:off x="2928960" y="26114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4"/>
          <a:stretch/>
        </p:blipFill>
        <p:spPr>
          <a:xfrm>
            <a:off x="3214800" y="3989520"/>
            <a:ext cx="857160" cy="368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5"/>
          <a:stretch/>
        </p:blipFill>
        <p:spPr>
          <a:xfrm>
            <a:off x="4572000" y="3979800"/>
            <a:ext cx="1285920" cy="368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6"/>
          <a:stretch/>
        </p:blipFill>
        <p:spPr>
          <a:xfrm>
            <a:off x="6357960" y="39798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7"/>
          <a:stretch/>
        </p:blipFill>
        <p:spPr>
          <a:xfrm>
            <a:off x="7715160" y="39909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8"/>
          <a:stretch/>
        </p:blipFill>
        <p:spPr>
          <a:xfrm>
            <a:off x="928800" y="5357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9"/>
          <a:stretch/>
        </p:blipFill>
        <p:spPr>
          <a:xfrm>
            <a:off x="2500200" y="5357880"/>
            <a:ext cx="1785960" cy="368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10"/>
          <a:stretch/>
        </p:blipFill>
        <p:spPr>
          <a:xfrm>
            <a:off x="4735440" y="5357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11"/>
          <a:stretch/>
        </p:blipFill>
        <p:spPr>
          <a:xfrm>
            <a:off x="1949400" y="62676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12"/>
          <a:stretch/>
        </p:blipFill>
        <p:spPr>
          <a:xfrm>
            <a:off x="3479760" y="62643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13"/>
          <a:stretch/>
        </p:blipFill>
        <p:spPr>
          <a:xfrm>
            <a:off x="5214960" y="6265800"/>
            <a:ext cx="1428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314280" y="1019160"/>
            <a:ext cx="8515440" cy="55530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2"/>
          <a:stretch/>
        </p:blipFill>
        <p:spPr>
          <a:xfrm>
            <a:off x="1000080" y="1928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3714840" y="1928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5143680" y="19796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7694640" y="196992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6"/>
          <a:stretch/>
        </p:blipFill>
        <p:spPr>
          <a:xfrm>
            <a:off x="928800" y="24289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7"/>
          <a:stretch/>
        </p:blipFill>
        <p:spPr>
          <a:xfrm>
            <a:off x="2571840" y="3338640"/>
            <a:ext cx="2071440" cy="368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8"/>
          <a:stretch/>
        </p:blipFill>
        <p:spPr>
          <a:xfrm>
            <a:off x="2714760" y="3786120"/>
            <a:ext cx="785520" cy="368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9"/>
          <a:stretch/>
        </p:blipFill>
        <p:spPr>
          <a:xfrm>
            <a:off x="4929120" y="3786120"/>
            <a:ext cx="1428840" cy="368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10"/>
          <a:stretch/>
        </p:blipFill>
        <p:spPr>
          <a:xfrm>
            <a:off x="2714760" y="4707000"/>
            <a:ext cx="2143080" cy="368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11"/>
          <a:stretch/>
        </p:blipFill>
        <p:spPr>
          <a:xfrm>
            <a:off x="2857680" y="5613480"/>
            <a:ext cx="192852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1:03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